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B6A-3827-405B-95CA-AD027C70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A3A-7836-4080-8A5D-D8DA37C1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E9D-0C02-4C6A-9EF0-A0022A10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F3D-BEDD-462D-8BD7-7E6D6E59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AED-4CF7-484F-BE7A-D2FD29C0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04D-5E4D-438F-9CC6-3504CA40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9F2-4DCA-4826-8627-965B51A0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743-1FC6-4ECB-8845-2BDCE6B0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AA6-8357-4780-B00F-D47F85E2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11E-0589-4DA7-8D7C-204FBBF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556-17C5-4258-9F76-6E07A53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252-E534-4902-9167-1D83F6B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10FA-AE10-4050-BDB0-4419F31F3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uestiones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08F8-57EA-416A-BAD8-5D73880D822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0" y="68580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1961c"/>
                </a:solidFill>
                <a:latin typeface="Helvetica Neue"/>
              </a:rPr>
              <a:t>Cuest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6320" y="17733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Dine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ar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57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Los ingresos </a:t>
            </a:r>
            <a:r>
              <a:rPr b="1" lang="es-ES" sz="3000" spc="-1" strike="noStrike">
                <a:solidFill>
                  <a:srgbClr val="132f5a"/>
                </a:solidFill>
                <a:latin typeface="Arial"/>
                <a:ea typeface="Arial"/>
              </a:rPr>
              <a:t>son el dinero que usted percibe a partir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al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gresos como trabajador independi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Asistencia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ubsidio familiar o pensión alimenti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tereses y dividen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eguro So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Otras fuentes (por ejemplo, propin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858000" y="2514600"/>
            <a:ext cx="2081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987480"/>
            <a:ext cx="87631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bru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ne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ingresos del Seguro Social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por 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fam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superviv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128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352680" y="1801800"/>
            <a:ext cx="5791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 – deducci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ijos n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lexibles a menud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al vez tenga cierto control sobre cuánto pag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precios para encontrar el mejor valor antes de comprometerse a un pag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Hoja de trabajo de 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2 en la Guía para el Particip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hoja de cálculo de ingresos y gastos mensual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as fuentes de ingresos y montos mensuales a la izquier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os gastos y montos mensuales a la derech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activ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Box 4"/>
          <p:cNvSpPr/>
          <p:nvPr/>
        </p:nvSpPr>
        <p:spPr>
          <a:xfrm>
            <a:off x="1378080" y="1039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15400" y="14302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qu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3519720" y="18874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tamos y f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522960" y="2313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 de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513240" y="2751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497760" y="317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513600" y="36212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508920" y="4052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520800" y="4495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958640" y="103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ducir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ducir gastos aumenta su flujo de fon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¿Cómo puede reducir gasto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ar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os créditos impositivos que pueden ayudarlo a aumentar sus ingresos so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del gobierno federal sobre el impuesto de la renta (EITC o EIC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mpositivos por hi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por gastos de cuidado de hijos o personas a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educ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impositivos por contribuciones para ahorros de ret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er registros preci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990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en un lugar segur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Organice sus archivos para que sea fácil encontrar y actualizar la información financiera importa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impositivos al menos 3 añ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Envíe cheques para el pago de facturas al menos una semana antes de la fecha de vencimiento para evitar carg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3: Programa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8748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3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el programa de pago mensu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as fuentes de ingresos y las fechas en las que se recib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os gastos, fechas de vencimiento y mo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295280"/>
          <a:ext cx="7925040" cy="4267440"/>
        </p:xfrm>
        <a:graphic>
          <a:graphicData uri="http://schemas.openxmlformats.org/drawingml/2006/table">
            <a:tbl>
              <a:tblPr/>
              <a:tblGrid>
                <a:gridCol w="1295640"/>
                <a:gridCol w="1828800"/>
                <a:gridCol w="2209680"/>
                <a:gridCol w="259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hor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75 a pagar el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lqu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,000 a pagar el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om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Gastos pers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5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eléf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arjeta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40 a pagar el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4: Calendario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4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el calendario de pago mensual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scriba los ingresos y los gastos en las fechas correspondien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herramientas para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23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bre de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ja de presupue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ja de cálculo de computado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12222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236232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ando hay más gastos que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debería pagar primero si no puede pagar todas sus factur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los gastos necesarios del hogar (alquiler o hipoteca y alime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a salud y bienestar de su familia a la hora de prioriz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e asistencia para poder cubr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ar sus préstam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problemas para pagar sus préstamos, consid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el préstamo que tenga la tasa de interés más 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s acr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ar asesoramient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arse en bancarrota (¡como último recurso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5: Consideraciones de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5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Lea cuidadosamente la situación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beneficios de elaborar un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crear un plan de gastos para controlar sus gastos diarios y sus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el Programa y el Calendario de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ras consideraciones para tener en mente al planificar su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987480"/>
            <a:ext cx="8991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Enumerar los pasos para establecer objetivos financie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Hacer un seguimiento de hábitos de gastos di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Preparar un plan de gastos para estimar ingresos y gast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disminuir ga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aumentar ingre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herramientas de un plan de gastos que lo ayudarán a administrar factu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é quiere aprender acerca de cómo administrar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ágalos específicos para lo que quiere en un cierto period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ce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úqu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progr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80000" y="3279600"/>
            <a:ext cx="190188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12920" y="4572000"/>
            <a:ext cx="206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Por qué crear un plan de gastos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 un plan detallado para cancelar los gastos de un período determin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reducir ans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otorga un sentido de control sobre su din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construir un patrimo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sos para prepar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evar un registro de sus gastos d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us ingresos y gastos mensu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reducir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aumentar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levar un registr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Sabe en qué gasta su dinero cada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ienda en qué se gasta el dinero mediante un registro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un diario de gastos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Diari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1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el Diario de gastos dia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ote cuánto dinero se ha gastado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16:08Z</dcterms:modified>
  <cp:revision>2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